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E393-BD90-40AD-BAC6-EE6E17FCD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CB6-6B93-4CF5-B581-785B07824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790-6681-4846-97BC-B14FCD8A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DA4-4AB7-4A91-B6A9-8E70BA5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414-F20E-43E4-B76D-494FC09F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026-B4E9-4930-B7EF-BD7D3C51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293-5FDC-4A91-9C92-AE8ACAA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6F0-54E9-4B25-87C2-C5202B3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404-68E1-4D6A-A138-B3A1D2C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EFF-8386-4AAD-B372-604923CC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72F-6706-4C19-A047-E9624941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A0B-F236-4B1A-9B72-30A05E4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033-7A53-49E0-9319-47A2D1F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6BB-9819-4F98-B0DD-07F3003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D6D-ABA7-4723-9D52-181D6FC8C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F893-0033-4D76-8A25-5FF21D53E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декабр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3E36-B176-4AB9-8F11-025F5F092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11880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1188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12-01T05:14:25Z</dcterms:modified>
  <cp:revision>145</cp:revision>
  <dc:subject/>
  <dc:title>Презентация PowerPoint</dc:title>
</cp:coreProperties>
</file>